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0F86E-57F6-4E85-B4CE-471F3EBD2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96959-2617-451C-894B-0564D0C39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10D3A-2817-415E-8638-C2BD0F0FD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0D8F9-F5B1-4666-88F4-CA2DE2B47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F1667-0D34-4ACE-81A0-1D9FA1FF3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BDBBA-252B-46D5-8CDB-A0B4C3C0F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DE772-DFBC-4CC0-BD82-D63697947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4159F-5E09-4E49-82DA-178C3EEBA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5217C-32DA-41A7-BC4C-0C3FFFE16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3DD60-36D0-4007-9F77-DA40BB5B7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C503C-BC42-4D3C-9D03-7606ACAB2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34FA3-9A53-4EAC-8B32-71B3CBC7B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2055E-DECB-423B-BB7E-FC0B99425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23880-316A-4758-9F1B-CCA9B2195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83773-ED8E-4EA1-BA71-9E56719AE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0C7D0-0EEF-4B91-BDBD-D06610F49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273D6-3223-4C50-B333-FF46EB5DD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75B52-43DA-4DC1-8C2C-656420B7B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1B274-C00E-43B7-83CE-9A7551590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615C8-A487-4248-842A-110DD2CAD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07010-A27C-4E12-B510-4C93FE8BB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F69F0-1273-4BFD-B05A-5004D6D23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109BD-60C3-4076-8011-EFCF050AF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9C45F-918B-4BF7-86DE-B07766BA3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F1561-5CCC-4B05-B095-DD2F1B6A05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6B7A0-5FC3-4E4D-A847-32F0E1CA4D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studentpublishing.com/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mailto:ruthspiro@sbcglobal.net" TargetMode="External"/><Relationship Id="rId2" Type="http://schemas.openxmlformats.org/officeDocument/2006/relationships/hyperlink" Target="http://www.studentpublishing.com/" TargetMode="External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studentpublishing.com/" TargetMode="External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7391520" cy="22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merican Typewriter"/>
              </a:rPr>
              <a:t>                      </a:t>
            </a:r>
            <a:r>
              <a:rPr b="0" lang="en-US" sz="4400" spc="-1" strike="noStrike">
                <a:solidFill>
                  <a:srgbClr val="ff0000"/>
                </a:solidFill>
                <a:latin typeface="American Typewriter"/>
              </a:rPr>
              <a:t>Avoca West 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American Typewriter"/>
              </a:rPr>
              <a:t>      5th Grade Student Publishing Project!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828440" y="380952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merican Typewriter"/>
              </a:rPr>
              <a:t>February-March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merican Typewriter"/>
              </a:rPr>
              <a:t>Encore L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merican Typewriter"/>
              </a:rPr>
              <a:t>Mrs. Geid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merican Typewriter"/>
              </a:rPr>
              <a:t>#1 task Definition</a:t>
            </a:r>
            <a:br>
              <a:rPr sz="4400"/>
            </a:br>
            <a:r>
              <a:rPr b="0" lang="en-US" sz="2400" spc="-1" strike="noStrike">
                <a:solidFill>
                  <a:srgbClr val="ff0000"/>
                </a:solidFill>
                <a:latin typeface="American Typewriter"/>
              </a:rPr>
              <a:t>What’s the task? </a:t>
            </a:r>
            <a:br>
              <a:rPr sz="2400"/>
            </a:br>
            <a:r>
              <a:rPr b="0" lang="en-US" sz="2400" spc="-1" strike="noStrike">
                <a:solidFill>
                  <a:srgbClr val="ff0000"/>
                </a:solidFill>
                <a:latin typeface="American Typewriter"/>
              </a:rPr>
              <a:t>What types of information do I ne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761760" y="1676520"/>
            <a:ext cx="83818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buClr>
                <a:srgbClr val="703dff"/>
              </a:buClr>
              <a:buFont typeface="American Typewri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American Typewriter"/>
              </a:rPr>
              <a:t>Your task is to write and illustrate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American Typewriter"/>
              </a:rPr>
              <a:t>   </a:t>
            </a:r>
            <a:r>
              <a:rPr b="0" lang="en-US" sz="3200" spc="-1" strike="noStrike">
                <a:solidFill>
                  <a:srgbClr val="703dff"/>
                </a:solidFill>
                <a:latin typeface="American Typewriter"/>
              </a:rPr>
              <a:t>16 page storybook online that will be published as a hardcover boo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03dff"/>
              </a:buClr>
              <a:buFont typeface="American Typewri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American Typewriter"/>
              </a:rPr>
              <a:t>You will need to know how to gather and process ideas, how to incorporate the “ingredients” of a good story, how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American Typewriter"/>
              </a:rPr>
              <a:t>   </a:t>
            </a:r>
            <a:r>
              <a:rPr b="0" lang="en-US" sz="3200" spc="-1" strike="noStrike">
                <a:solidFill>
                  <a:srgbClr val="703dff"/>
                </a:solidFill>
                <a:latin typeface="American Typewriter"/>
              </a:rPr>
              <a:t>to edit, and how to use the </a:t>
            </a:r>
            <a:r>
              <a:rPr b="0" lang="en-US" sz="3200" spc="-1" strike="noStrike" u="sng">
                <a:solidFill>
                  <a:srgbClr val="00b200"/>
                </a:solidFill>
                <a:uFillTx/>
                <a:latin typeface="American Typewriter"/>
                <a:hlinkClick r:id="rId1"/>
              </a:rPr>
              <a:t>www.studentpublishing.com</a:t>
            </a:r>
            <a:r>
              <a:rPr b="0" lang="en-US" sz="3200" spc="-1" strike="noStrike">
                <a:solidFill>
                  <a:srgbClr val="703dff"/>
                </a:solidFill>
                <a:latin typeface="American Typewriter"/>
              </a:rPr>
              <a:t>  websi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6960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merican Typewriter"/>
              </a:rPr>
              <a:t>#2 Information Seeking Strategies</a:t>
            </a:r>
            <a:br>
              <a:rPr sz="4400"/>
            </a:br>
            <a:r>
              <a:rPr b="0" lang="en-US" sz="2800" spc="-1" strike="noStrike">
                <a:solidFill>
                  <a:srgbClr val="ff0000"/>
                </a:solidFill>
                <a:latin typeface="American Typewriter"/>
              </a:rPr>
              <a:t>What are possible sources? </a:t>
            </a:r>
            <a:br>
              <a:rPr sz="2800"/>
            </a:br>
            <a:r>
              <a:rPr b="0" lang="en-US" sz="2800" spc="-1" strike="noStrike">
                <a:solidFill>
                  <a:srgbClr val="ff0000"/>
                </a:solidFill>
                <a:latin typeface="American Typewriter"/>
              </a:rPr>
              <a:t>Which are the be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2133720"/>
            <a:ext cx="91440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703dff"/>
              </a:buClr>
              <a:buFont typeface="American Typewri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American Typewriter"/>
              </a:rPr>
              <a:t>Talk to friends, parents, &amp; other people who have shared experiences and adventures with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703dff"/>
              </a:buClr>
              <a:buFont typeface="American Typewri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American Typewriter"/>
              </a:rPr>
              <a:t>Dream big!  Let your imagination run wil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703dff"/>
              </a:buClr>
              <a:buFont typeface="American Typewri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American Typewriter"/>
              </a:rPr>
              <a:t>Observe events, people and places in your life.</a:t>
            </a:r>
            <a:r>
              <a:rPr b="0" lang="en-US" sz="2400" spc="-1" strike="noStrike">
                <a:solidFill>
                  <a:srgbClr val="703dff"/>
                </a:solidFill>
                <a:latin typeface="American Typewriter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08320" y="5402160"/>
            <a:ext cx="614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927080" y="5021280"/>
            <a:ext cx="500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828800" y="4724280"/>
            <a:ext cx="7315200" cy="16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703dff"/>
              </a:buClr>
              <a:buFont typeface="American Typewri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American Typewriter"/>
              </a:rPr>
              <a:t>Reflect on your memories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703dff"/>
              </a:buClr>
              <a:buFont typeface="American Typewri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American Typewriter"/>
              </a:rPr>
              <a:t>Refer to Ruth Spiro’s recipe for a sto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8487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merican Typewriter"/>
              </a:rPr>
              <a:t>#3 Location and Access</a:t>
            </a:r>
            <a:br>
              <a:rPr sz="4400"/>
            </a:br>
            <a:r>
              <a:rPr b="0" lang="en-US" sz="2800" spc="-1" strike="noStrike">
                <a:solidFill>
                  <a:srgbClr val="ff0000"/>
                </a:solidFill>
                <a:latin typeface="American Typewriter"/>
              </a:rPr>
              <a:t>Where is each source?</a:t>
            </a:r>
            <a:br>
              <a:rPr sz="2800"/>
            </a:br>
            <a:r>
              <a:rPr b="0" lang="en-US" sz="2800" spc="-1" strike="noStrike">
                <a:solidFill>
                  <a:srgbClr val="ff0000"/>
                </a:solidFill>
                <a:latin typeface="American Typewriter"/>
              </a:rPr>
              <a:t>Where is the information in each sourc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03dff"/>
              </a:buClr>
              <a:buFont typeface="American Typewri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American Typewriter"/>
              </a:rPr>
              <a:t>Ideas are all around you and inside of you!  LOOK!  LISTEN!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03dff"/>
              </a:buClr>
              <a:buFont typeface="American Typewri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American Typewriter"/>
              </a:rPr>
              <a:t>Ruth Spiro’s “recipe” should be written in your writer’s journal.  If not, you can email her at: </a:t>
            </a:r>
            <a:r>
              <a:rPr b="0" lang="en-US" sz="3200" spc="-1" strike="noStrike" u="sng">
                <a:solidFill>
                  <a:srgbClr val="00b200"/>
                </a:solidFill>
                <a:uFillTx/>
                <a:latin typeface="American Typewriter"/>
                <a:hlinkClick r:id="rId1"/>
              </a:rPr>
              <a:t>ruthspiro@sbcglobal.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03dff"/>
              </a:buClr>
              <a:buFont typeface="American Typewri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b200"/>
                </a:solidFill>
                <a:uFillTx/>
                <a:latin typeface="American Typewriter"/>
                <a:hlinkClick r:id="rId2"/>
              </a:rPr>
              <a:t>www.studentpublishing.com</a:t>
            </a:r>
            <a:r>
              <a:rPr b="0" lang="en-US" sz="3200" spc="-1" strike="noStrike">
                <a:solidFill>
                  <a:srgbClr val="703dff"/>
                </a:solidFill>
                <a:latin typeface="American Typewriter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merican Typewriter"/>
              </a:rPr>
              <a:t>#4 Use of Information</a:t>
            </a:r>
            <a:br>
              <a:rPr sz="4400"/>
            </a:br>
            <a:r>
              <a:rPr b="0" lang="en-US" sz="2800" spc="-1" strike="noStrike">
                <a:solidFill>
                  <a:srgbClr val="ff0000"/>
                </a:solidFill>
                <a:latin typeface="American Typewriter"/>
              </a:rPr>
              <a:t>How can I best use each source?  </a:t>
            </a:r>
            <a:br>
              <a:rPr sz="2800"/>
            </a:br>
            <a:r>
              <a:rPr b="0" lang="en-US" sz="2800" spc="-1" strike="noStrike">
                <a:solidFill>
                  <a:srgbClr val="ff0000"/>
                </a:solidFill>
                <a:latin typeface="American Typewriter"/>
              </a:rPr>
              <a:t>What information in each source is usefu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0" y="198072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03dff"/>
              </a:buClr>
              <a:buFont typeface="American Typewri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American Typewriter"/>
              </a:rPr>
              <a:t>Carry your writer’s journal everywhere you go.  As you get ideas, write them d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03dff"/>
              </a:buClr>
              <a:buFont typeface="American Typewri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American Typewriter"/>
              </a:rPr>
              <a:t>Use the student publishing website and Ruth Spiro as your exper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03dff"/>
              </a:buClr>
              <a:buFont typeface="American Typewri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American Typewriter"/>
              </a:rPr>
              <a:t>Ask questions.  Bounce your ideas off of your family and friends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56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merican Typewriter"/>
              </a:rPr>
              <a:t>#5 Synthesis</a:t>
            </a:r>
            <a:br>
              <a:rPr sz="4400"/>
            </a:br>
            <a:r>
              <a:rPr b="0" lang="en-US" sz="2800" spc="-1" strike="noStrike">
                <a:solidFill>
                  <a:srgbClr val="ff0000"/>
                </a:solidFill>
                <a:latin typeface="American Typewriter"/>
              </a:rPr>
              <a:t>How can I organize all the information? How can I present the resul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0" y="1752120"/>
            <a:ext cx="91440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03dff"/>
              </a:buClr>
              <a:buFont typeface="American Typewri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dff"/>
                </a:solidFill>
                <a:latin typeface="American Typewriter"/>
              </a:rPr>
              <a:t>Read through your journal idea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03dff"/>
              </a:buClr>
              <a:buFont typeface="American Typewri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dff"/>
                </a:solidFill>
                <a:latin typeface="American Typewriter"/>
              </a:rPr>
              <a:t>Cross off any that don’t excite you, and then put a star by your top 3 choi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03dff"/>
              </a:buClr>
              <a:buFont typeface="American Typewri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dff"/>
                </a:solidFill>
                <a:latin typeface="American Typewriter"/>
              </a:rPr>
              <a:t>Review Mrs. Spiro’s recipe.  Which of your top 3 ideas could be used to write a story that includes all of the required ingredien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03dff"/>
              </a:buClr>
              <a:buFont typeface="American Typewri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dff"/>
                </a:solidFill>
                <a:latin typeface="American Typewriter"/>
              </a:rPr>
              <a:t>Choose your idea and log in 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dff"/>
                </a:solidFill>
                <a:latin typeface="American Typewriter"/>
              </a:rPr>
              <a:t>     </a:t>
            </a:r>
            <a:r>
              <a:rPr b="0" lang="en-US" sz="2400" spc="-1" strike="noStrike" u="sng">
                <a:solidFill>
                  <a:srgbClr val="00b200"/>
                </a:solidFill>
                <a:uFillTx/>
                <a:latin typeface="American Typewriter"/>
                <a:hlinkClick r:id="rId1"/>
              </a:rPr>
              <a:t>www.studentpublishing.com</a:t>
            </a:r>
            <a:r>
              <a:rPr b="0" lang="en-US" sz="2400" spc="-1" strike="noStrike">
                <a:solidFill>
                  <a:srgbClr val="703dff"/>
                </a:solidFill>
                <a:latin typeface="American Typewriter"/>
              </a:rPr>
              <a:t> to begin your story!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03dff"/>
              </a:buClr>
              <a:buFont typeface="American Typewri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dff"/>
                </a:solidFill>
                <a:latin typeface="American Typewriter"/>
              </a:rPr>
              <a:t>Consider how you will do the pictures.  (Scan h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dff"/>
                </a:solidFill>
                <a:latin typeface="American Typewriter"/>
              </a:rPr>
              <a:t>     </a:t>
            </a:r>
            <a:r>
              <a:rPr b="0" lang="en-US" sz="2400" spc="-1" strike="noStrike">
                <a:solidFill>
                  <a:srgbClr val="703dff"/>
                </a:solidFill>
                <a:latin typeface="American Typewriter"/>
              </a:rPr>
              <a:t>drawn images?  Draw online?  Upload digital photo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676520" y="5634000"/>
            <a:ext cx="7772400" cy="12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703dff"/>
              </a:buClr>
              <a:buFont typeface="American Typewri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dff"/>
                </a:solidFill>
                <a:latin typeface="American Typewriter"/>
              </a:rPr>
              <a:t>Once you have finished writing and illustra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dff"/>
                </a:solidFill>
                <a:latin typeface="American Typewriter"/>
              </a:rPr>
              <a:t>   </a:t>
            </a:r>
            <a:r>
              <a:rPr b="0" lang="en-US" sz="2400" spc="-1" strike="noStrike">
                <a:solidFill>
                  <a:srgbClr val="703dff"/>
                </a:solidFill>
                <a:latin typeface="American Typewriter"/>
              </a:rPr>
              <a:t>your book, it’s time to edit!  </a:t>
            </a:r>
            <a:r>
              <a:rPr b="0" lang="en-US" sz="2400" spc="-1" strike="noStrike">
                <a:solidFill>
                  <a:srgbClr val="ff0000"/>
                </a:solidFill>
                <a:latin typeface="American Typewriter"/>
              </a:rPr>
              <a:t>STOP!</a:t>
            </a:r>
            <a:r>
              <a:rPr b="0" lang="en-US" sz="1800" spc="-1" strike="noStrike">
                <a:solidFill>
                  <a:srgbClr val="ff0000"/>
                </a:solidFill>
                <a:latin typeface="American Typewriter"/>
              </a:rPr>
              <a:t>(See Mrs. Geidn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703dff"/>
              </a:buClr>
              <a:buFont typeface="American Typewri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dff"/>
                </a:solidFill>
                <a:latin typeface="American Typewriter"/>
              </a:rPr>
              <a:t>Submit your final copy no later than March 26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56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merican Typewriter"/>
              </a:rPr>
              <a:t>#6 Evaluation</a:t>
            </a:r>
            <a:br>
              <a:rPr sz="4400"/>
            </a:br>
            <a:r>
              <a:rPr b="0" lang="en-US" sz="2800" spc="-1" strike="noStrike">
                <a:solidFill>
                  <a:srgbClr val="ff0000"/>
                </a:solidFill>
                <a:latin typeface="American Typewriter"/>
              </a:rPr>
              <a:t>Is the task completed? </a:t>
            </a:r>
            <a:br>
              <a:rPr sz="2800"/>
            </a:br>
            <a:r>
              <a:rPr b="0" lang="en-US" sz="2800" spc="-1" strike="noStrike">
                <a:solidFill>
                  <a:srgbClr val="ff0000"/>
                </a:solidFill>
                <a:latin typeface="American Typewriter"/>
              </a:rPr>
              <a:t>How can I do things bett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2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b200"/>
                </a:solidFill>
                <a:latin typeface="American Typewriter"/>
              </a:rPr>
              <a:t>Write a blog post reflecting on your student publishing experience.  Include the follow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03dff"/>
              </a:buClr>
              <a:buFont typeface="American Typewri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dff"/>
                </a:solidFill>
                <a:latin typeface="American Typewriter"/>
              </a:rPr>
              <a:t>Describe the project.  Provide the title of your book and a short summary of what it was ab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03dff"/>
              </a:buClr>
              <a:buFont typeface="American Typewri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dff"/>
                </a:solidFill>
                <a:latin typeface="American Typewriter"/>
              </a:rPr>
              <a:t>Were you able to follow the directions and submit your story to be publish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03dff"/>
              </a:buClr>
              <a:buFont typeface="American Typewri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dff"/>
                </a:solidFill>
                <a:latin typeface="American Typewriter"/>
              </a:rPr>
              <a:t>Describe how you felt about the editing process and about getting constructive criticism from oth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03dff"/>
              </a:buClr>
              <a:buFont typeface="American Typewri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dff"/>
                </a:solidFill>
                <a:latin typeface="American Typewriter"/>
              </a:rPr>
              <a:t>What did you learn about the process of writing a book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057400" y="5524560"/>
            <a:ext cx="6797520" cy="13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703dff"/>
              </a:buClr>
              <a:buFont typeface="American Typewri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dff"/>
                </a:solidFill>
                <a:latin typeface="American Typewriter"/>
              </a:rPr>
              <a:t>Are you happy with the final result?  Wh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703dff"/>
              </a:buClr>
              <a:buFont typeface="American Typewri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dff"/>
                </a:solidFill>
                <a:latin typeface="American Typewriter"/>
              </a:rPr>
              <a:t>What would you do differently if you had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dff"/>
                </a:solidFill>
                <a:latin typeface="American Typewriter"/>
              </a:rPr>
              <a:t>   </a:t>
            </a:r>
            <a:r>
              <a:rPr b="0" lang="en-US" sz="2400" spc="-1" strike="noStrike">
                <a:solidFill>
                  <a:srgbClr val="703dff"/>
                </a:solidFill>
                <a:latin typeface="American Typewriter"/>
              </a:rPr>
              <a:t>the opportunity to do this agai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7T23:45:01Z</dcterms:created>
  <dc:creator>Avoca West School</dc:creator>
  <dc:description/>
  <dc:language>en-US</dc:language>
  <cp:lastModifiedBy>Avoca West School</cp:lastModifiedBy>
  <dcterms:modified xsi:type="dcterms:W3CDTF">2010-02-18T01:45:32Z</dcterms:modified>
  <cp:revision>1</cp:revision>
  <dc:subject/>
  <dc:title>                      Avoca West        5th Grade Student Publishing Project!</dc:title>
</cp:coreProperties>
</file>